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9DFC8-70B3-4D5C-91C2-D2BA58BE03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756FE-8904-4831-9D25-9FC7CDFDF5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432080"/>
            <a:ext cx="84582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240" y="3987720"/>
            <a:ext cx="84582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432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2280" y="1432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39877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62280" y="39877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43208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8080" y="143208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8280" y="143208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240" y="398772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8080" y="398772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8280" y="398772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240" y="1432080"/>
            <a:ext cx="845820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240" y="1432080"/>
            <a:ext cx="84582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240" y="1432080"/>
            <a:ext cx="4127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62280" y="1432080"/>
            <a:ext cx="4127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1432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62280" y="1432080"/>
            <a:ext cx="4127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240" y="39877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432080"/>
            <a:ext cx="4127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62280" y="1432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2280" y="39877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1432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62280" y="1432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3987720"/>
            <a:ext cx="84582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432080"/>
            <a:ext cx="84582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077320" y="6478560"/>
            <a:ext cx="819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5-</a:t>
            </a:r>
            <a:fld id="{704F93ED-A112-445F-8988-EC1AA462CE07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5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ctivity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ased Costing and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ctivity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ased Manageme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aditional (Peanut Butter)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784872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eanut Butter Costing Approach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traditional costing approach which uses broad averages to spread costs among products and services even though the resources are are consumed in a non-uniform wa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eads to overcosting and undercosting of products and servi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81680" y="64771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48 - 14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4114800"/>
            <a:ext cx="784872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 cost cross-subsidiz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f some products are overcosted, other products are undercost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 overcosted products are subsidizing the undercosted produc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fining a Costing Syst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07696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ree things to consider to improve an existing costing syste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afd00"/>
              </a:solidFill>
              <a:latin typeface="Arial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-cost trac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285840"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duce the amount of indirect costs by classifying more costs as dire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-cost poo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285840"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pand the number of indirect-cost pools until the costs in each pool are homogeneou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-allocation bas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285840"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sider using a different cost-allocation base for each indirect-cost poo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285840"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ased on what causes the cost pool to chang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16292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5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tivity-Based Costing (ABC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31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finement of an existing cost system which focuses on individual activities as the basic cost obje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n activity is an event, task, or unit of work with a specified purpos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ples of activities include designing the product or service, set up of machinery, operating machinery, distribution of finished product, administration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419112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undamental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Objec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715000" y="41911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llocations to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ther Cost Objec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72200" y="4952880"/>
            <a:ext cx="1752480" cy="1313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1600" indent="-2016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of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01600" indent="-201600"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duc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01600" indent="-201600"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ervi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01600" indent="-201600"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ustome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90920" y="5562720"/>
            <a:ext cx="68580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105520" y="5562720"/>
            <a:ext cx="91440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52 - 15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05320" y="5181480"/>
            <a:ext cx="1752480" cy="703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s of Activiti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5181480"/>
            <a:ext cx="1752840" cy="856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iviti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 Hierarchie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en thinking about splitting indirect costs into homogeneous cost pools considering four cost hierarchies or cost categori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80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utput unit-level costs:  costs relating to individual units of output such as materia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80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atch-level costs:  costs relating to batches of output such as set-up charg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80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-sustaining costs:  costs relating to the support of a particular product such as product design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80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acility-sustaining costs:  costs relating to the organization as a whol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5800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55 - 15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aditional versus ABC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3124080" cy="70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raditional Costing Syste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781680" y="64771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56 - 16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2346480"/>
            <a:ext cx="2590920" cy="10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Indirect Costs / DLH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=  $2,000,000 / 40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= $50 per DLH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3962520"/>
            <a:ext cx="2361960" cy="3682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Total Indirect Cos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4800600"/>
            <a:ext cx="1218960" cy="64260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impl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Len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828800" y="4800600"/>
            <a:ext cx="1219320" cy="64260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omplex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Len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1066680" y="4343400"/>
            <a:ext cx="609840" cy="380880"/>
          </a:xfrm>
          <a:prstGeom prst="line">
            <a:avLst/>
          </a:prstGeom>
          <a:ln w="190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76520" y="4343400"/>
            <a:ext cx="609480" cy="380880"/>
          </a:xfrm>
          <a:prstGeom prst="line">
            <a:avLst/>
          </a:prstGeom>
          <a:ln w="190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286000" y="5486400"/>
            <a:ext cx="0" cy="380880"/>
          </a:xfrm>
          <a:prstGeom prst="line">
            <a:avLst/>
          </a:prstGeom>
          <a:ln w="190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914400" y="5486400"/>
            <a:ext cx="0" cy="380880"/>
          </a:xfrm>
          <a:prstGeom prst="line">
            <a:avLst/>
          </a:prstGeom>
          <a:ln w="190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5869080"/>
            <a:ext cx="2286000" cy="3682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3733920" y="1295280"/>
            <a:ext cx="5410080" cy="4957920"/>
            <a:chOff x="3733920" y="1295280"/>
            <a:chExt cx="5410080" cy="4957920"/>
          </a:xfrm>
        </p:grpSpPr>
        <p:sp>
          <p:nvSpPr>
            <p:cNvPr id="82" name=""/>
            <p:cNvSpPr/>
            <p:nvPr/>
          </p:nvSpPr>
          <p:spPr>
            <a:xfrm>
              <a:off x="4800600" y="1295280"/>
              <a:ext cx="3429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ABC Costing System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191120" y="3809880"/>
              <a:ext cx="1676160" cy="6426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Indirect Cost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Pool A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00600" y="4816440"/>
              <a:ext cx="1219320" cy="6426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Simple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Lens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24480" y="4816440"/>
              <a:ext cx="1219320" cy="6426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Complex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Lens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10080" y="4495680"/>
              <a:ext cx="0" cy="3049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867280" y="4495680"/>
              <a:ext cx="762120" cy="22860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6781680" y="5502240"/>
              <a:ext cx="0" cy="3808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5410080" y="5502240"/>
              <a:ext cx="0" cy="3808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029200" y="5884920"/>
              <a:ext cx="2286000" cy="3682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Direct Costs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733920" y="2057400"/>
              <a:ext cx="259056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5000"/>
            </a:bodyPr>
            <a:p>
              <a:pPr marL="325800" indent="-32580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Pool A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Indirect Costs / DLHs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=  $500,000 / 4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= $12.50 per DLH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400800" y="2057400"/>
              <a:ext cx="2743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5000"/>
            </a:bodyPr>
            <a:p>
              <a:pPr marL="325800" indent="-32580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Pool B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Indirect Costs / MHs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=  $1,500,000 / 1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= $150 per MH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400800" y="3809880"/>
              <a:ext cx="1676520" cy="6426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Indirect Cost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Pool B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010280" y="4495680"/>
              <a:ext cx="0" cy="3049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5714640" y="4495680"/>
              <a:ext cx="685800" cy="22860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nefits of ABC System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458200" cy="481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motes the use of activity-based management (ABM) within the organiza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BM focuses management’s attention on the activities that cause costs to be incurr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sults i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etter product and pricing decis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duced cost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erforming activities more efficientl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liminating activities that do not add valu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mproving product desig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ventually leads to improved operations and processes, satisfied customers, and increased prof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81680" y="64771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51 -15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ll-Tale” Signs of Need to Consider ABC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gnificant amounts of costs are allocated using one or two cost poo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 or most of the costs are identified as output unit-level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s make diverse demands on resour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in products show little profit while secondary products show large prof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lex products appear to be profitable while simple products appear to be losing mone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6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ons and accounting staff disagree about the costs of manufacturing and marketing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81680" y="64771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54 -15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owing Interest in Activity-Based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381880" cy="474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acto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%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1349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ore accurate cost information for product pricing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61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ore accurate profit analysi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61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y produc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2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y custome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y process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4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y departmen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3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mproved performance measure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3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mproved insight into cost causation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7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ource:  Armitage, H., and R. Nicholson, “Activity-Based Costing: A Survey of Canadian Practices”, supplement to CMA Magazine (1993)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1676520"/>
            <a:ext cx="807696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64771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6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01:59:26Z</dcterms:created>
  <dc:creator>User</dc:creator>
  <dc:description/>
  <dc:language>en-US</dc:language>
  <cp:lastModifiedBy>John Moore</cp:lastModifiedBy>
  <cp:lastPrinted>1999-06-03T12:08:02Z</cp:lastPrinted>
  <dcterms:modified xsi:type="dcterms:W3CDTF">2003-03-22T13:11:26Z</dcterms:modified>
  <cp:revision>9</cp:revision>
  <dc:subject/>
  <dc:title>No Slide Title</dc:title>
</cp:coreProperties>
</file>